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388-37B7-4FC1-B911-2FC09399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95E-1115-46E6-AB5C-4E4C2FDD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A8C-6BA5-4684-A06B-D5739E13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3C4-C1E7-4B5E-B323-6922A68F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54F-DF85-42CC-A48A-787258B3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8CC-A3F2-4AB1-BE2D-5398958E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DCA-157A-4572-A224-E6BF9AB2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5C8-BEF2-449F-8238-86AA346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C36-D892-47DC-9A6B-1CDCC4CD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1C6-4D37-4CE3-8290-5A385B8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054-6AB9-4C9B-8AB5-8824E39D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4A3-AB5E-41F3-894E-85730295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41F0-DA08-4417-B1F3-1CC8F6815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3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COTTISH  INDOOR  ASSOC.        SCOTTISH  INDOOR  ASSOC.                      ABERDEEN                                    ABERDEEN                                      ABERDEEN  25TH                                  ALLAND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4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     AYR                                           BAINFIELD                                     BALBARDIE                                         BLANTYRE                                    BLANTYRE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N  ACCORD                                    BUCHAN                                   CASTLEMILK                                      CLYDEBANK                                       COATBRIDGE                                           COW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73240" y="191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68520" y="1628640"/>
            <a:ext cx="1243080" cy="1281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243080" cy="110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28880" y="26028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513240" y="26028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952880" y="260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608880" y="11592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8193240" y="260280"/>
            <a:ext cx="95076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24520" y="170028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608880" y="148428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121600" y="1844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31800" y="3645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73240" y="342900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440160" y="3645000"/>
            <a:ext cx="140796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097600" y="364500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608880" y="3284640"/>
            <a:ext cx="127944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193240" y="350028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488880" y="5300640"/>
            <a:ext cx="126216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073240" y="5445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5097600" y="544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681960" y="5445000"/>
            <a:ext cx="116964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193240" y="5084640"/>
            <a:ext cx="1315800" cy="14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488880" y="1916280"/>
            <a:ext cx="1082880" cy="113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        ARBROATH                          ARBROATH  25TH                                ARDROSSAN                                          ARDROSSAN                                AUCHINL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0:23:11Z</dcterms:created>
  <dc:creator>John Young</dc:creator>
  <dc:description/>
  <dc:language>en-US</dc:language>
  <cp:lastModifiedBy>JY</cp:lastModifiedBy>
  <cp:lastPrinted>2000-10-18T00:23:58Z</cp:lastPrinted>
  <dcterms:modified xsi:type="dcterms:W3CDTF">2007-05-15T15:24:31Z</dcterms:modified>
  <cp:revision>10</cp:revision>
  <dc:subject/>
  <dc:title>No Slide Title</dc:title>
</cp:coreProperties>
</file>